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wmf" ContentType="image/x-wmf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38.jpeg" ContentType="image/jpeg"/>
  <Override PartName="/ppt/media/image12.wmf" ContentType="image/x-wmf"/>
  <Override PartName="/ppt/media/image29.jpeg" ContentType="image/jpeg"/>
  <Override PartName="/ppt/media/image10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2.jpeg" ContentType="image/jpeg"/>
  <Override PartName="/ppt/media/image30.jpeg" ContentType="image/jpeg"/>
  <Override PartName="/ppt/media/image7.wmf" ContentType="image/x-wmf"/>
  <Override PartName="/ppt/media/image9.jpeg" ContentType="image/jpeg"/>
  <Override PartName="/ppt/media/image11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E93-975B-4E32-933E-2DC03B8C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FC1-DB6A-4CB2-9787-933DC2BC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903-8083-43A4-BA7C-BCB7B1FC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EF6-74AE-4B24-A5A4-592E43E8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7C43-2E37-4FD9-9499-3F8EAFC5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3BAC-1BB5-4B3E-8764-F49164EC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C606-C64B-4A80-942A-0F03034C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36CF-67A9-4E86-8CD9-2A455026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1ED6-6270-44F4-8662-A21AA048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B0A6-125D-42BA-A11E-C6E9CEAE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FB93-2050-4F59-A1AC-D4C00826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93C-E563-4152-A924-F1E0F2B8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4E73-D2F9-43DB-B5A1-A9B45323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AE44-3B28-4331-8E1F-21FB5564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7F07-A5E3-4610-AB5C-E7C0C39F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C0D9-F0CF-44D1-8006-FED8959E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4DA5-E756-4A45-9C7D-2353DB32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163-A9F3-4B7F-BCD3-B673366D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0BE-5D96-4D0A-92BF-57234C36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E06-C19D-4744-AB3F-F1148F7D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2E2-63B7-410F-B3E0-06E93783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197-1729-4030-9EB8-AB475C70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D01-7F2F-4E84-BEB3-A4DCA06A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68F-A753-4A2A-805C-D0B07764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789B-82FC-4E57-94DC-5D066566E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D4F8-61FA-4D80-8762-3748771CB55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9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s and Flui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lasm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ter heated to a very high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of the electrons are freed from the nucle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 is a collection of free, electrically charged 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mas exist inside st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formation of 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objects are deform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possible to change the shape or size (or both) of an object through the application of external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forces are removed, the object tends to its original sh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deformation that exhibi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astic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Propert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r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force per unit area causing the de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ra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measure of the amount of de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 modul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constant of proportionality between stress and str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ufficiently small stresses, the stress is directly proportional to the st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stant of proportionality depends on the material being deformed and the nature of the de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Modulu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astic modulus can be thought of as the stiffness of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terial with a large elastic modulus is very stiff and difficult to de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ogous to the spring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981080" y="5410080"/>
          <a:ext cx="616104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410080"/>
                    <a:ext cx="61610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: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ity in Leng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sile stress is the ratio of the external force to the cross-sectional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sile is because the bar is under 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astic modulu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oung’s mod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0903"/>
          <p:cNvPicPr/>
          <p:nvPr/>
        </p:nvPicPr>
        <p:blipFill>
          <a:blip r:embed="rId1"/>
          <a:stretch/>
        </p:blipFill>
        <p:spPr>
          <a:xfrm>
            <a:off x="5145120" y="260820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 of stress are Pascals, P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Pa = 1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ensile strain is the ratio of the change in length to the original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in is dimension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3517920" y="5505480"/>
          <a:ext cx="180180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7920" y="5505480"/>
                    <a:ext cx="180180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ng’s modulus applies to a stress of either tension or com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possible to exce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astic lim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longer directly propor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inarily does not return to its original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7" descr="0904"/>
          <p:cNvPicPr/>
          <p:nvPr/>
        </p:nvPicPr>
        <p:blipFill>
          <a:blip r:embed="rId1"/>
          <a:stretch/>
        </p:blipFill>
        <p:spPr>
          <a:xfrm>
            <a:off x="5145120" y="2408400"/>
            <a:ext cx="38098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reak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tress continues, it surpasses it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ltimate str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ltimate strength is the greatest stress the object can withstand without br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reaking poi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brittle material, the breaking point is just beyond its ultimate str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ductile material, after passing the ultimate strength the material thins and stretches at a lower stress level before br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ltimate Strength of Materi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ultimate streng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material is the maximum force per unit area the material can withstand before it breaks or fa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materials are stronger in compression than in t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st and Beam Arch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orizontal beam is supported by two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in Greek te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umns are closely spa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ed length of available st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ultimate tensile strength of sagging stone b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7" descr="0907a"/>
          <p:cNvPicPr/>
          <p:nvPr/>
        </p:nvPicPr>
        <p:blipFill>
          <a:blip r:embed="rId1"/>
          <a:stretch/>
        </p:blipFill>
        <p:spPr>
          <a:xfrm>
            <a:off x="5145120" y="232236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appy Monday (Hic!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record (that’s Disc to you young puppies), was spinning at 45 rpm. If I dropped two more identical records on top of the spinning record, what would its new speed be in RP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micircular Ar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by the Rom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a wide roof span on narrow supporting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bility depends upon the compression of the wedge-shaped st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7" descr="0907b"/>
          <p:cNvPicPr/>
          <p:nvPr/>
        </p:nvPicPr>
        <p:blipFill>
          <a:blip r:embed="rId1"/>
          <a:stretch/>
        </p:blipFill>
        <p:spPr>
          <a:xfrm>
            <a:off x="5145120" y="2184480"/>
            <a:ext cx="380988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othic Ar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used in Europe in the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l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ying buttresses are needed to prevent the spreading of the arch supported by the tall, narrow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4343400" y="1905120"/>
          <a:ext cx="441972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905120"/>
                    <a:ext cx="441972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ink break!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k up the density of air and then tell me what mass of air would occupy a volume of 30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ensity of a substance of uniform composition is defined as its mass per unit volum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s are kg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SI) or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cg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1000 kg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3124080" y="3276720"/>
          <a:ext cx="1447920" cy="11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276720"/>
                    <a:ext cx="144792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ensities of most liquids and solids vary slightly with changes in temperature and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nsities of gases vary greatly with changes in temperature and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cific Gra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pecific grav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substance is the ratio of its density to the density of water at 4°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nsity of water at 4° C is 1000 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 gravity is a unitless rat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SG of mercur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exerted by a fluid on a submerged object at any point i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pendicul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the surface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1752480" y="5105520"/>
                <a:ext cx="30495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8" name="Picture 8" descr="0908a"/>
          <p:cNvPicPr/>
          <p:nvPr/>
        </p:nvPicPr>
        <p:blipFill>
          <a:blip r:embed="rId1"/>
          <a:stretch/>
        </p:blipFill>
        <p:spPr>
          <a:xfrm>
            <a:off x="5425920" y="2017800"/>
            <a:ext cx="324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asuring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ring is calibrated by a known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the fluid exerts on the piston is then meas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7" descr="0908b"/>
          <p:cNvPicPr/>
          <p:nvPr/>
        </p:nvPicPr>
        <p:blipFill>
          <a:blip r:embed="rId1"/>
          <a:stretch/>
        </p:blipFill>
        <p:spPr>
          <a:xfrm>
            <a:off x="5300640" y="2017800"/>
            <a:ext cx="349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ariation of Pressure with Dep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fluid is at rest in a container, all portions of the fluid must be in static equilibrium,(or else what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points at the same depth must be at the same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wise, the fluid would not be in equilib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uid would flow from the higher pressure region to the lower pressure region (leaving an unacceptable vacu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and Dep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the darker region, assumed to be a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has a cross-sectional area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s to a depth h below the su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external forces act on the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aw to this equilibrium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0911b"/>
          <p:cNvPicPr/>
          <p:nvPr/>
        </p:nvPicPr>
        <p:blipFill>
          <a:blip r:embed="rId1"/>
          <a:stretch/>
        </p:blipFill>
        <p:spPr>
          <a:xfrm>
            <a:off x="5253120" y="2017800"/>
            <a:ext cx="359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tes of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algebra please…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+ mg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bu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=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 and V=A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for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h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 using the book’s nomenclatur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 +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h = 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and Depth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normal atmospheric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01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 = 14.7 lb/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essure does not depend upon the shape of the conta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15" descr="0912"/>
          <p:cNvPicPr/>
          <p:nvPr/>
        </p:nvPicPr>
        <p:blipFill>
          <a:blip r:embed="rId1"/>
          <a:stretch/>
        </p:blipFill>
        <p:spPr>
          <a:xfrm>
            <a:off x="5181480" y="2362320"/>
            <a:ext cx="3657600" cy="293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1981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gg z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gauge pressure 20m below the surface of sea wate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absolute pressu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scal’s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hange in pressure applied to an enclosed fluid is transmitted undimished to every point of the fluid and to the walls of the contain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recognized by Blaise Pascal, a French scientist (1623 – 166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scal’s Principl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ydraulic press is an important application of Pascal’s Princi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used in hydraulic brakes, forklifts, car lift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1371600" y="3581280"/>
                <a:ext cx="2057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0" name="Picture 8" descr="0914a"/>
          <p:cNvPicPr/>
          <p:nvPr/>
        </p:nvPicPr>
        <p:blipFill>
          <a:blip r:embed="rId1"/>
          <a:stretch/>
        </p:blipFill>
        <p:spPr>
          <a:xfrm>
            <a:off x="5145120" y="2560680"/>
            <a:ext cx="38098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bsolute vs. Gauge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essure P is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absolu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, P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 –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h is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gau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Measuremen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n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end of the U-shaped tube is open to the atmo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ther end is connected to the pressure to be meas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at B i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ρ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5105520" y="1981080"/>
          <a:ext cx="3741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81080"/>
                    <a:ext cx="3741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lood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ood pressure is measured with a special type of manometer called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phygmomano-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is measured in mm of merc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6" descr="0917"/>
          <p:cNvPicPr/>
          <p:nvPr/>
        </p:nvPicPr>
        <p:blipFill>
          <a:blip r:embed="rId1"/>
          <a:stretch/>
        </p:blipFill>
        <p:spPr>
          <a:xfrm>
            <a:off x="5881680" y="2017800"/>
            <a:ext cx="233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Measurements: Bar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ed by Torricelli (1608 – 164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ong closed tube is filled with mercury and inverted in a dish of merc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s atmospheric pressure as ρ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7" descr="0916b"/>
          <p:cNvPicPr/>
          <p:nvPr/>
        </p:nvPicPr>
        <p:blipFill>
          <a:blip r:embed="rId1"/>
          <a:stretch/>
        </p:blipFill>
        <p:spPr>
          <a:xfrm>
            <a:off x="6019920" y="2017800"/>
            <a:ext cx="206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Values in Various Un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atmosphere of pressure is defined as the pressure equivalent to a column of mercury exactly 0.76 m tall at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 where g = 9.806 65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atmosphere (1 atm)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6.0 cm of merc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01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.7 l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definite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definite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lecules are held in specific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electrical fo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brate about equilibrium pos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modeled as springs connecting molec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7" descr="0901"/>
          <p:cNvPicPr/>
          <p:nvPr/>
        </p:nvPicPr>
        <p:blipFill>
          <a:blip r:embed="rId1"/>
          <a:stretch/>
        </p:blipFill>
        <p:spPr>
          <a:xfrm>
            <a:off x="5145120" y="2173320"/>
            <a:ext cx="38098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87 – 212 B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k mathematician, physicist, and engine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oyant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n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6" descr="09p283"/>
          <p:cNvPicPr/>
          <p:nvPr/>
        </p:nvPicPr>
        <p:blipFill>
          <a:blip r:embed="rId1"/>
          <a:stretch/>
        </p:blipFill>
        <p:spPr>
          <a:xfrm>
            <a:off x="5145120" y="2052720"/>
            <a:ext cx="38098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'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 object completely or partially submerged in a fluid is buoyed up by a force whose magnitude is equal to the weight of the fluid displaced by the objec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ward forc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uoyant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hysical cause of the buoyant force is the pressure difference between the top and the bottom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8" descr="0918a"/>
          <p:cNvPicPr/>
          <p:nvPr/>
        </p:nvPicPr>
        <p:blipFill>
          <a:blip r:embed="rId1"/>
          <a:stretch/>
        </p:blipFill>
        <p:spPr>
          <a:xfrm>
            <a:off x="5145120" y="2046240"/>
            <a:ext cx="38098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gnitude of the buoyant force always equals the weight of the displaced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uoyant force is the same for a totally submerged object of any size, shape, or dens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1752480" y="3581280"/>
          <a:ext cx="479124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47912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uoyant force is exerted by the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ther an object sinks or floats depends on the relationship between the buoyant force and the we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pward buoyant force is B=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ownward gravitational force is w=mg=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t force is B-w=(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g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less dense than the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experiences a net upward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7" descr="0919a"/>
          <p:cNvPicPr/>
          <p:nvPr/>
        </p:nvPicPr>
        <p:blipFill>
          <a:blip r:embed="rId1"/>
          <a:stretch/>
        </p:blipFill>
        <p:spPr>
          <a:xfrm>
            <a:off x="5450040" y="2017800"/>
            <a:ext cx="3198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more dense than the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t force i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accelerate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0919b"/>
          <p:cNvPicPr/>
          <p:nvPr/>
        </p:nvPicPr>
        <p:blipFill>
          <a:blip r:embed="rId1"/>
          <a:stretch/>
        </p:blipFill>
        <p:spPr>
          <a:xfrm>
            <a:off x="5494320" y="2017800"/>
            <a:ext cx="311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oating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bject is in static equilibr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pward buoyant force is balanced by the downward force of gra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lume of the fluid displaced corresponds to the volume of the object beneath the fluid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oating Object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s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1523880" y="3200400"/>
                <a:ext cx="22100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2" name="Picture 15" descr="0920"/>
          <p:cNvPicPr/>
          <p:nvPr/>
        </p:nvPicPr>
        <p:blipFill>
          <a:blip r:embed="rId1"/>
          <a:stretch/>
        </p:blipFill>
        <p:spPr>
          <a:xfrm>
            <a:off x="5145120" y="2994120"/>
            <a:ext cx="3809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forces can be applied to the solid and compress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odel, the springs would be comp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force is removed, the solid returns to its original shape and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perty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Prove this for tonight’s homework!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2209680" y="3048120"/>
                <a:ext cx="5029200" cy="12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s in Mot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eamline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line flow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particle that passes a particular point moves exactly along the smooth path followed by particles that passed the point ear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alled laminar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line is the p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treamlines cannot cross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eamline at any point coincides with the direction of fluid velocity at that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eamline Flow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38" name="Picture 3" descr="0926"/>
          <p:cNvPicPr/>
          <p:nvPr/>
        </p:nvPicPr>
        <p:blipFill>
          <a:blip r:embed="rId1"/>
          <a:stretch/>
        </p:blipFill>
        <p:spPr>
          <a:xfrm>
            <a:off x="3048120" y="2438280"/>
            <a:ext cx="5852880" cy="38512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609480" y="2514600"/>
            <a:ext cx="213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line flow shown around an auto in a wind 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s in Mot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rbulent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low becomes irreg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eds a certain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condition that causes abrupt changes in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dy currents are a characteristic of turbulent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rbulent Flow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tating blade (dark area) forms a vortex in heated 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ck of the burner is at the bot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rbulent air flow occurs on both sides of the bl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6" descr="0927"/>
          <p:cNvPicPr/>
          <p:nvPr/>
        </p:nvPicPr>
        <p:blipFill>
          <a:blip r:embed="rId1"/>
          <a:stretch/>
        </p:blipFill>
        <p:spPr>
          <a:xfrm>
            <a:off x="5549760" y="2017800"/>
            <a:ext cx="299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 Flow: Visco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cosity is the degree of internal friction in the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ternal friction is associated with the resistance between two adjacent layers of the fluid moving relative to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racteristics of an Ideal Fl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is nonvisc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is no internal friction between adjacent lay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is incompr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s density is const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motion is stea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s velocity, density, and pressure do not change in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moves without turbu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eddy currents are pres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lements have zero angular velocity about its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ation of Continu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duct of the cross-sectional area of a pipe and the fluid speed is a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d is high where the pipe is narrow and speed is low where the pipe has a large dia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low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7" descr="0928a"/>
          <p:cNvPicPr/>
          <p:nvPr/>
        </p:nvPicPr>
        <p:blipFill>
          <a:blip r:embed="rId1"/>
          <a:stretch/>
        </p:blipFill>
        <p:spPr>
          <a:xfrm>
            <a:off x="5145120" y="2440080"/>
            <a:ext cx="38098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ation of Continuit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quation is a consequence of conservation of mass and a steady 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 =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equivalent to the fact that the volume of fluid that enters one end of the tube in a given time interval equals the volume of fluid leaving the tube in the same inter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s the fluid is incompressible and there are no lea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Flow rate hints at continuity equation……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y toilet pipe riser starts out at 30cm. Diameter and finishes at 20cm. Diameter. If water starts at 1200liters/second what will its speed be at the smaller end in m/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rystalline Sol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have an ordered struc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example is sa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y spheres represent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en spheres represent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0902a"/>
          <p:cNvPicPr/>
          <p:nvPr/>
        </p:nvPicPr>
        <p:blipFill>
          <a:blip r:embed="rId1"/>
          <a:stretch/>
        </p:blipFill>
        <p:spPr>
          <a:xfrm>
            <a:off x="5145120" y="2344680"/>
            <a:ext cx="38098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niel Bernoull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700 – 178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ss physicist and mathematic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ydrodynam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did work that was the beginning of the kinetic theory of g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6" descr="09p292"/>
          <p:cNvPicPr/>
          <p:nvPr/>
        </p:nvPicPr>
        <p:blipFill>
          <a:blip r:embed="rId1"/>
          <a:stretch/>
        </p:blipFill>
        <p:spPr>
          <a:xfrm>
            <a:off x="5504040" y="2017800"/>
            <a:ext cx="309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rnoulli’s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s pressure to fluid speed and ele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rnoulli’s equation is a consequence of Conservation of Energy applied to an ideal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s the fluid is incompressible and nonviscous, and flows in a nonturbulent, steady-state man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rnoulli’s Equa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s that the sum of the pressure, kinetic energy per unit volume, and the potential energy per unit volume has the same value at all points along a stream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2209680" y="5105520"/>
                <a:ext cx="4876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ρ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Bernoulli’s Principle: Venturi Tub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ws fluid flowing through a horizontal constricted pi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changes as diameter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to measure the speed of the fluid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ftly moving fluids exert less pressure than do slowly moving flui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7" descr="0930a"/>
          <p:cNvPicPr/>
          <p:nvPr/>
        </p:nvPicPr>
        <p:blipFill>
          <a:blip r:embed="rId1"/>
          <a:stretch/>
        </p:blipFill>
        <p:spPr>
          <a:xfrm>
            <a:off x="5145120" y="2730600"/>
            <a:ext cx="3809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 Object Moving Through a Fl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ommon phenomena can be explained by Bernoulli’s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parti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an object moving through a fluid is acted upon by a net upward force as the result of any effect that causes the fluid to change its direction as it flows past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Golf Bal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mples in the golf ball help move air along its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ll pushes the air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ton’s Third Law tells us the air must push up on the b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inning ball travels farther than if it were not spi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6" descr="0933"/>
          <p:cNvPicPr/>
          <p:nvPr/>
        </p:nvPicPr>
        <p:blipFill>
          <a:blip r:embed="rId1"/>
          <a:stretch/>
        </p:blipFill>
        <p:spPr>
          <a:xfrm>
            <a:off x="5145120" y="3049560"/>
            <a:ext cx="38098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Airplane W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speed above the wing is greater than the speed be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pressure above the wing is less than the air pressure be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net upward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factors are also invol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6" descr="0936"/>
          <p:cNvPicPr/>
          <p:nvPr/>
        </p:nvPicPr>
        <p:blipFill>
          <a:blip r:embed="rId1"/>
          <a:stretch/>
        </p:blipFill>
        <p:spPr>
          <a:xfrm>
            <a:off x="5149800" y="2017800"/>
            <a:ext cx="3800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r. B’s =n put to use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force on molecule A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lled equally in all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force on B is not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olecules above to act on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lled toward the center of the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7" descr="0939"/>
          <p:cNvPicPr/>
          <p:nvPr/>
        </p:nvPicPr>
        <p:blipFill>
          <a:blip r:embed="rId1"/>
          <a:stretch/>
        </p:blipFill>
        <p:spPr>
          <a:xfrm>
            <a:off x="5591160" y="2017800"/>
            <a:ext cx="2916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 Closer Look at the Surface of Liqu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ohesive for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orces between lik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dhesive for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orces between unlik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hape of the surface depends upon the relative size of the cohesive and adhesive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morphous Sol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are arranged almost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include g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7" descr="0902b"/>
          <p:cNvPicPr/>
          <p:nvPr/>
        </p:nvPicPr>
        <p:blipFill>
          <a:blip r:embed="rId1"/>
          <a:stretch/>
        </p:blipFill>
        <p:spPr>
          <a:xfrm>
            <a:off x="5145120" y="2079720"/>
            <a:ext cx="380988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s in Contact with a Solid Surface – Case 1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esive forces are greater than the co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clings to the walls of the conta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“wets” the 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7" descr="0943a"/>
          <p:cNvPicPr/>
          <p:nvPr/>
        </p:nvPicPr>
        <p:blipFill>
          <a:blip r:embed="rId1"/>
          <a:stretch/>
        </p:blipFill>
        <p:spPr>
          <a:xfrm>
            <a:off x="5145120" y="2292480"/>
            <a:ext cx="38098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s in Contact with a Solid Surface – Case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sive forces are greater than the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curve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does not “wet”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7" descr="0943b"/>
          <p:cNvPicPr/>
          <p:nvPr/>
        </p:nvPicPr>
        <p:blipFill>
          <a:blip r:embed="rId1"/>
          <a:stretch/>
        </p:blipFill>
        <p:spPr>
          <a:xfrm>
            <a:off x="5145120" y="2206800"/>
            <a:ext cx="3809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illary action is the result of surface tension and adhe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quid rises in the tube when adhesive forces are greater than cohe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point of contact between the liquid and the solid, the upward forces are as shown in the dia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7" descr="0945"/>
          <p:cNvPicPr/>
          <p:nvPr/>
        </p:nvPicPr>
        <p:blipFill>
          <a:blip r:embed="rId1"/>
          <a:stretch/>
        </p:blipFill>
        <p:spPr>
          <a:xfrm>
            <a:off x="5402160" y="2017800"/>
            <a:ext cx="329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e, the cohesive forces are greater than the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vel of the fluid in the tube will be below the surface of the surrounding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7" descr="0946"/>
          <p:cNvPicPr/>
          <p:nvPr/>
        </p:nvPicPr>
        <p:blipFill>
          <a:blip r:embed="rId1"/>
          <a:stretch/>
        </p:blipFill>
        <p:spPr>
          <a:xfrm>
            <a:off x="5272200" y="2017800"/>
            <a:ext cx="355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iscous Fluid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cosity refers to friction between the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yers in a viscous fluid have different veloc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locity is greatest at the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esive forces between the fluid and the walls slow down the fluid on the out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8" descr="0947b"/>
          <p:cNvPicPr/>
          <p:nvPr/>
        </p:nvPicPr>
        <p:blipFill>
          <a:blip r:embed="rId1"/>
          <a:stretch/>
        </p:blipFill>
        <p:spPr>
          <a:xfrm>
            <a:off x="5145120" y="2952720"/>
            <a:ext cx="38098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port Phenomen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ment of a fluid may be due to differences in concen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opposed to movement due to a pressure dif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ntration is the number of molecules per unit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will flow from an area of high concentration to an area of low concen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ffu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osm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u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ntration on the left is higher than on the right of the imaginary barr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of the molecules on the left can pass to the right, but few can pass from right to l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net movement from the higher concentration to the lower concen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0950"/>
          <p:cNvPicPr/>
          <p:nvPr/>
        </p:nvPicPr>
        <p:blipFill>
          <a:blip r:embed="rId1"/>
          <a:stretch/>
        </p:blipFill>
        <p:spPr>
          <a:xfrm>
            <a:off x="3684600" y="2017800"/>
            <a:ext cx="2766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smosi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smosis is the movement of water from a region where its concentration is high, across a selectively permeable membrane, into a region where its concentration is 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lectively permeable membra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one that allows passage of some molecules, but not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3,14,17,19,20a,22,23,24,25,26, 28,30,33,34,36,42,43,45,47,48,       51,81,8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a definite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definite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s at a higher temperature than soli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lecules “wander” through the liquid in a random fash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rmolecular forces are not strong enough to keep the molecules in a fixed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7" descr="0902c"/>
          <p:cNvPicPr/>
          <p:nvPr/>
        </p:nvPicPr>
        <p:blipFill>
          <a:blip r:embed="rId1"/>
          <a:stretch/>
        </p:blipFill>
        <p:spPr>
          <a:xfrm>
            <a:off x="5307120" y="2017800"/>
            <a:ext cx="348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no definite volu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no definite sha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lecules are in constant random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lecules exert only weak forces on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distance between molecules is large compared to the size of th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5T00:25:17Z</dcterms:created>
  <dc:creator>Marilyn Akins</dc:creator>
  <dc:description/>
  <dc:language>en-US</dc:language>
  <cp:lastModifiedBy>gandella</cp:lastModifiedBy>
  <dcterms:modified xsi:type="dcterms:W3CDTF">2010-09-29T15:50:03Z</dcterms:modified>
  <cp:revision>36</cp:revision>
  <dc:subject/>
  <dc:title>Chapter 9</dc:title>
</cp:coreProperties>
</file>